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8111-34CB-4330-BCC7-11E09944E5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1:25</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ext leveling table and word lis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0149-FE13-4ADC-8A0D-B9759DA2B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1:30</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B487-33F6-4526-A517-DEA4B96AF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 [11:5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esh on the difference between the MA/R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post a sample MA/RR for one of the extra examples to the wiki course handouts for next week.  Try on own first, and can compare it to mine. Doesn’t meant that they have to change to mine….</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BD9F-5E38-4EC2-BC87-09AE04798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in</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3E5E-9BA6-4FB5-A1ED-8D52178C7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in</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E9B9-750A-4B42-A62C-7CF576681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FA16-F0A2-40EC-B12B-10499DD90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0:10</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CAD1-1AB2-4FA6-AD0B-7A8D815EBA4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097C-92CD-4632-AD15-9D6B71B6B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5</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BE8D-CDC2-4B30-A9E6-1F9681D47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0</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  8:02</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4AEE-64AE-4F9C-AB2A-034FB27CA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D9D9-9B88-42D5-AF64-666D05FAD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 10:5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hec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your own data we will talk about planning instruction based on oral reading records (RR/M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5</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4D8A-BBE7-4244-A2E3-C2804644DC4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00</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4D9C-4431-4101-950A-B71956B79D3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05</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9D00-38AF-460E-8B3D-DB6FEB31D1F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6461-7760-4D26-9E26-DD0A83968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0</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8CCA-689D-4297-A3C9-D571DABE0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2CDC-B7C7-4A40-A997-19952751E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1:25</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min  11: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C454-5500-420C-BCDE-F35BBD7F6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in./</a:t>
            </a:r>
            <a:r>
              <a:rPr b="1" lang="en-US" sz="1200" spc="-1" strike="noStrike">
                <a:solidFill>
                  <a:srgbClr val="000000"/>
                </a:solidFill>
                <a:latin typeface="Arial"/>
              </a:rPr>
              <a:t>11:0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anguage resources, or cuing systems, are these 2nd grade readers utilizing? - 5-10 min. in groups</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each.</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reader(s) would benefit from phonics instruction? OR remediation? What other information do you ne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reader 3 read it like that in his literature circle group?  What about in a guided reading group?  What about in a lesson that was explicitly focused on Standard English grammar? What does this say about who he is becom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To assess a student’s use of the pragmatic cuing system, we have to take into account the larger context of the activity, including it’s setting, purpose, and the other participa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1F73-E172-4E37-9A86-34908843B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0</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2B2D-FC91-499A-B958-A66EDB447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A087-5251-4B4A-8A6D-44CC0A353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7</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7F48-A9F4-44D5-A896-529103631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0</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38E5-E5FF-4046-98F9-0D988C784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Mars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 minutes   11:05</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9178-7F86-4195-A5BF-8BB88510C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class, I want them to tape record either way, but they have a choice of conducting RR or M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A- Martens reading…. </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9A16-8854-4D52-9FF7-8B797E490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1:2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nnotation differences and differences in tally shee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3C22-8112-4E12-8AEA-82DA9F5E9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D81D7-639E-4BAA-97C2-F9ACB1E45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EBF4D-5E89-401A-8D78-40213FC48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1AFD9-2645-4E9C-AF14-9CC59ABFF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8B6AD-51B4-4AC3-8C51-68BA1C131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A77AB-48AB-4542-9FE1-6FF006D23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10592-A1A4-4CEA-B3C5-46300A648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18FE2-5E47-4C81-BCC1-8E40A23BE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D2E2-9371-4578-9417-FB9C9ABFA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7BA22-6480-4FD8-B722-86D116A2B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DD519-92B0-4CAC-B9DD-C7B201B43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E63AA-BFD2-4CB9-B9D5-6E59DCCFC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640E2-51AE-4B33-9782-09B2C8ED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FDAA-C210-4438-AF7C-9B9816438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543F3-D020-4F27-8EF4-C7060A66B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3A522-B58A-4C10-82A6-694AC5BF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0832C-BAC5-45B0-92A2-CA20F5C14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5846A-FF8A-4B8E-B99F-84614D384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AEC5C-A740-4651-A5AB-71555601C9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712FBA-622D-441B-AC0E-DB0FBE681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1AC91-E843-4FB7-81DB-6859A6449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70C0A-FA40-4FD6-BA4E-FD8C55A1E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EA00D-217F-49D1-999F-F13DED72F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4EAD-9CD2-47D4-8CD4-9CC637E0D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00AAB-DB26-435F-8D51-71B4A1647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7399C-D066-4D69-8ED4-0D572E995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149B0-8AB7-4BF3-88F3-2F4BEFE83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18CB7-EEBE-42C5-8CB9-C67CB582A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4EB4D-15B2-446D-92E2-FFFB0DA0A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69144-248E-429C-BF51-991149E28A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9BFE21-EE53-4F15-9E0B-FD3F45D61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D8663E-AABA-4494-AEA8-7EC701E78E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36C77-889C-48CE-98E0-205B67B1F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8146E-C5AA-448A-AB3F-FEFF1C45E1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DC41A-FE0F-44C6-ABC8-A46A61AEF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06E1E-564F-4C67-B8EC-5285BEBE8C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E9D42-855F-4F56-889B-9FE1CBE4B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7BB0A-9B2E-4806-B4E8-62C964A71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D1C00-65BD-4137-BA63-F59561720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EFE73-207D-471D-8F9F-5BF384EA0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79FD6-3540-4F54-8A81-7EE7B5170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F7269-8C04-4217-B63E-5A88A3C5C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026BB0-FC25-4D62-A4FC-D7F3803EB6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D71AB-FB4F-4D0C-8EA6-914652B00C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74A59-5D9F-40F4-8528-C03340568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9D37-8AA1-4373-A8E9-8E9850290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7746-A700-4B5C-ABF4-AEDB2D535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307A-822A-4E51-82C9-A22087F9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A366-1FD4-48F9-93DB-DD4AB0BD6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7696-9D9C-4C04-93D3-08843A50B40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051F-45CE-4EAC-824C-0BF592F5205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A030-ACDF-44A8-A200-6DF0E2CB3B9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2787-0FC6-4F56-B308-05E0F10A8B6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people.coe.ilstu.edu/lhandsf/video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Using%20language%20exercise.doc"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Come in and be sure to sign in</a:t>
            </a:r>
            <a:endParaRPr b="0" lang="en-US" sz="4000" spc="-1" strike="noStrike">
              <a:solidFill>
                <a:srgbClr val="ffffff"/>
              </a:solidFill>
              <a:latin typeface="Constantia"/>
            </a:endParaRPr>
          </a:p>
          <a:p>
            <a:pPr algn="ctr">
              <a:spcBef>
                <a:spcPts val="10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xt Selection for RR/MA</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deal is to record oral reading with a text the child can read with about 90-95% accuracy.</a:t>
            </a:r>
            <a:endParaRPr b="0" lang="en-US" sz="2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choice</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imate based on other data (informal observation of child reading, etc.)</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a few different texts on hand</a:t>
            </a:r>
            <a:endParaRPr b="0" lang="en-US" sz="24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fore conducting a RR/MA:</a:t>
            </a:r>
            <a:endParaRPr b="0" lang="en-US" sz="2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d out if child is familiar with the text</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 to get a handle on his/her prior knowledge of the topic and of the text itself</a:t>
            </a:r>
            <a:endParaRPr b="0" lang="en-US" sz="24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mportant Considerations</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ngs that may affect a child’s oral reading:</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miliarity with text, series, genre, topi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ge/fluency of oral vs. silent reading (RMA can help mediate thi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fective domain (rapport, comfort, emo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ment fatigue</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n using a voice recorder, ask child’s permission to record; consider allowing him/her to record </a:t>
            </a:r>
            <a:r>
              <a:rPr b="0" i="1" lang="en-US" sz="2800" spc="-1" strike="noStrike">
                <a:solidFill>
                  <a:srgbClr val="000000"/>
                </a:solidFill>
                <a:latin typeface="Constantia"/>
              </a:rPr>
              <a:t>you</a:t>
            </a:r>
            <a:r>
              <a:rPr b="0" lang="en-US" sz="2800" spc="-1" strike="noStrike">
                <a:solidFill>
                  <a:srgbClr val="000000"/>
                </a:solidFill>
                <a:latin typeface="Constantia"/>
              </a:rPr>
              <a:t>.  Be honest about why you want to record him or her.</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R Practice with Partners</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ke a few minutes to review together the annotations in Johnston, pp. 203</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 to audio of child read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are notation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d yet more practice…</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 to The Pirate and the Parrot &amp; Don’t Let the Pigeon</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  a RR as you listen</a:t>
            </a:r>
            <a:endParaRPr b="0" lang="en-US" sz="24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e wiki for readings</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actice doing RR and MA on Harrison’s reading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ing your RR/MA to class next tim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sure to do calculations on 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day’s Topics</a:t>
            </a:r>
            <a:endParaRPr b="0" lang="en-US" sz="5000" spc="-1" strike="noStrike">
              <a:solidFill>
                <a:srgbClr val="04617b"/>
              </a:solidFill>
              <a:latin typeface="Calibri"/>
            </a:endParaRPr>
          </a:p>
        </p:txBody>
      </p:sp>
      <p:sp>
        <p:nvSpPr>
          <p:cNvPr id="229" name=""/>
          <p:cNvSpPr txBox="1"/>
          <p:nvPr/>
        </p:nvSpPr>
        <p:spPr>
          <a:xfrm>
            <a:off x="457200" y="19047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quiry Group assignment guidel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scue Analy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quiry Groups</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ment Guideline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xts will be available for you to browse next week during our visit to Mil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quiry texts will be selected next wee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45720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view of Procedures for RR/MA</a:t>
            </a:r>
            <a:endParaRPr b="0" lang="en-US" sz="4000" spc="-1" strike="noStrike">
              <a:solidFill>
                <a:srgbClr val="04617b"/>
              </a:solidFill>
              <a:latin typeface="Calibri"/>
            </a:endParaRPr>
          </a:p>
        </p:txBody>
      </p:sp>
      <p:sp>
        <p:nvSpPr>
          <p:cNvPr id="233" name="PlaceHolder 2"/>
          <p:cNvSpPr>
            <a:spLocks noGrp="1"/>
          </p:cNvSpPr>
          <p:nvPr>
            <p:ph/>
          </p:nvPr>
        </p:nvSpPr>
        <p:spPr>
          <a:xfrm>
            <a:off x="533520" y="1599840"/>
            <a:ext cx="8229600" cy="48006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verse with your student.</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f child provides a text, jot down title, and ask child whether s/he has read it before, etc.</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f you select the text</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roduce the book to the child and ask him/her to make some prediction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 to ascertain child’s prior knowledge of topic, text</a:t>
            </a:r>
            <a:endParaRPr b="0" lang="en-US" sz="24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k permission to record</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rd child reading</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kay to have child-initiated conversation about text</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doing MA, take anecdotal notes while child read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762120"/>
            <a:ext cx="792468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More Considerations</a:t>
            </a:r>
            <a:endParaRPr b="0" lang="en-US" sz="3600" spc="-1" strike="noStrike">
              <a:solidFill>
                <a:srgbClr val="04617b"/>
              </a:solidFill>
              <a:latin typeface="Calibri"/>
            </a:endParaRPr>
          </a:p>
        </p:txBody>
      </p:sp>
      <p:sp>
        <p:nvSpPr>
          <p:cNvPr id="235" name="PlaceHolder 2"/>
          <p:cNvSpPr>
            <a:spLocks noGrp="1"/>
          </p:cNvSpPr>
          <p:nvPr>
            <p:ph/>
          </p:nvPr>
        </p:nvSpPr>
        <p:spPr>
          <a:xfrm>
            <a:off x="456840" y="1676160"/>
            <a:ext cx="8077320" cy="480060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haring notations with students, or discussing their reading, focus on strengths at the outset</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a child gets frustrated</a:t>
            </a:r>
            <a:endParaRPr b="0" lang="en-US" sz="24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an intervention (i.e., “try that again”)</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t’s try another text</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ange the activity</a:t>
            </a:r>
            <a:endParaRPr b="0" lang="en-US" sz="20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a child breezes through with few miscues</a:t>
            </a:r>
            <a:endParaRPr b="0" lang="en-US" sz="24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ve on to a more difficult text</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sider WHY she/he breezed through</a:t>
            </a:r>
            <a:endParaRPr b="0" lang="en-US" sz="2000" spc="-1" strike="noStrike">
              <a:solidFill>
                <a:srgbClr val="000000"/>
              </a:solidFill>
              <a:latin typeface="Constantia"/>
            </a:endParaRPr>
          </a:p>
          <a:p>
            <a:pPr lvl="2" marL="868680" indent="-2336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luency?</a:t>
            </a:r>
            <a:endParaRPr b="0" lang="en-US" sz="2000" spc="-1" strike="noStrike">
              <a:solidFill>
                <a:srgbClr val="000000"/>
              </a:solidFill>
              <a:latin typeface="Constantia"/>
            </a:endParaRPr>
          </a:p>
          <a:p>
            <a:pPr lvl="2" marL="868680" indent="-2336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curate word calling?</a:t>
            </a:r>
            <a:endParaRPr b="0" lang="en-US" sz="2000" spc="-1" strike="noStrike">
              <a:solidFill>
                <a:srgbClr val="000000"/>
              </a:solidFill>
              <a:latin typeface="Constantia"/>
            </a:endParaRPr>
          </a:p>
          <a:p>
            <a:pPr lvl="2" marL="868680" indent="-2336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xt familiarity?</a:t>
            </a:r>
            <a:endParaRPr b="0" lang="en-US" sz="2000" spc="-1" strike="noStrike">
              <a:solidFill>
                <a:srgbClr val="000000"/>
              </a:solidFill>
              <a:latin typeface="Constantia"/>
            </a:endParaRPr>
          </a:p>
          <a:p>
            <a:pPr lvl="1" marL="607680" indent="-2332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retell may help you assess comprehens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685440"/>
            <a:ext cx="7543800" cy="81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cussion of Reading: RMA</a:t>
            </a:r>
            <a:endParaRPr b="0" lang="en-US" sz="5000" spc="-1" strike="noStrike">
              <a:solidFill>
                <a:srgbClr val="04617b"/>
              </a:solidFill>
              <a:latin typeface="Calibri"/>
            </a:endParaRPr>
          </a:p>
        </p:txBody>
      </p:sp>
      <p:sp>
        <p:nvSpPr>
          <p:cNvPr id="237" name="PlaceHolder 2"/>
          <p:cNvSpPr>
            <a:spLocks noGrp="1"/>
          </p:cNvSpPr>
          <p:nvPr>
            <p:ph/>
          </p:nvPr>
        </p:nvSpPr>
        <p:spPr>
          <a:xfrm>
            <a:off x="609480" y="1905120"/>
            <a:ext cx="7848720" cy="4495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itial responses to R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packet article, the author talks about how Michael begins “revaluing” himself.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she mea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does this relate to our “big ideas” of </a:t>
            </a:r>
            <a:r>
              <a:rPr b="0" i="1" lang="en-US" sz="2400" spc="-1" strike="noStrike">
                <a:solidFill>
                  <a:srgbClr val="000000"/>
                </a:solidFill>
                <a:latin typeface="Constantia"/>
              </a:rPr>
              <a:t>becoming </a:t>
            </a:r>
            <a:r>
              <a:rPr b="0" lang="en-US" sz="2400" spc="-1" strike="noStrike">
                <a:solidFill>
                  <a:srgbClr val="000000"/>
                </a:solidFill>
                <a:latin typeface="Constantia"/>
              </a:rPr>
              <a:t>and </a:t>
            </a:r>
            <a:r>
              <a:rPr b="0" i="1" lang="en-US" sz="2400" spc="-1" strike="noStrike">
                <a:solidFill>
                  <a:srgbClr val="000000"/>
                </a:solidFill>
                <a:latin typeface="Constantia"/>
              </a:rPr>
              <a:t>identity</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role did RMA play in this proces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7" dur="500"/>
                                        <p:tgtEl>
                                          <p:spTgt spid="2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2" dur="500"/>
                                        <p:tgtEl>
                                          <p:spTgt spid="237">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5" dur="500"/>
                                        <p:tgtEl>
                                          <p:spTgt spid="237">
                                            <p:txEl>
                                              <p:pRg st="2" end="2"/>
                                            </p:txEl>
                                          </p:spTgt>
                                        </p:tgtEl>
                                      </p:cBhvr>
                                    </p:animEffect>
                                  </p:childTnLst>
                                </p:cTn>
                              </p:par>
                              <p:par>
                                <p:cTn id="16" nodeType="withEffect" fill="hold" presetClass="entr" presetID="9">
                                  <p:stCondLst>
                                    <p:cond delay="0"/>
                                  </p:stCondLst>
                                  <p:childTnLst>
                                    <p:set>
                                      <p:cBhvr>
                                        <p:cTn id="17" dur="1" fill="hold">
                                          <p:stCondLst>
                                            <p:cond delay="0"/>
                                          </p:stCondLst>
                                        </p:cTn>
                                        <p:tgtEl>
                                          <p:spTgt spid="237">
                                            <p:txEl>
                                              <p:pRg st="3" end="3"/>
                                            </p:txEl>
                                          </p:spTgt>
                                        </p:tgtEl>
                                        <p:attrNameLst>
                                          <p:attrName>style.visibility</p:attrName>
                                        </p:attrNameLst>
                                      </p:cBhvr>
                                      <p:to>
                                        <p:strVal val="visible"/>
                                      </p:to>
                                    </p:set>
                                    <p:animEffect filter="dissolve" transition="in">
                                      <p:cBhvr additive="repl">
                                        <p:cTn id="18" dur="500"/>
                                        <p:tgtEl>
                                          <p:spTgt spid="237">
                                            <p:txEl>
                                              <p:pRg st="3" end="3"/>
                                            </p:txEl>
                                          </p:spTgt>
                                        </p:tgtEl>
                                      </p:cBhvr>
                                    </p:animEffect>
                                  </p:childTnLst>
                                </p:cTn>
                              </p:par>
                              <p:par>
                                <p:cTn id="19" nodeType="withEffect" fill="hold" presetClass="entr" presetID="9">
                                  <p:stCondLst>
                                    <p:cond delay="0"/>
                                  </p:stCondLst>
                                  <p:childTnLst>
                                    <p:set>
                                      <p:cBhvr>
                                        <p:cTn id="20" dur="1" fill="hold">
                                          <p:stCondLst>
                                            <p:cond delay="0"/>
                                          </p:stCondLst>
                                        </p:cTn>
                                        <p:tgtEl>
                                          <p:spTgt spid="237">
                                            <p:txEl>
                                              <p:pRg st="4" end="4"/>
                                            </p:txEl>
                                          </p:spTgt>
                                        </p:tgtEl>
                                        <p:attrNameLst>
                                          <p:attrName>style.visibility</p:attrName>
                                        </p:attrNameLst>
                                      </p:cBhvr>
                                      <p:to>
                                        <p:strVal val="visible"/>
                                      </p:to>
                                    </p:set>
                                    <p:animEffect filter="dissolve" transition="in">
                                      <p:cBhvr additive="repl">
                                        <p:cTn id="21" dur="5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allying and Analyzing RR and MA</a:t>
            </a:r>
            <a:endParaRPr b="0" lang="en-US" sz="3600" spc="-1" strike="noStrike">
              <a:solidFill>
                <a:srgbClr val="04617b"/>
              </a:solidFill>
              <a:latin typeface="Calibri"/>
            </a:endParaRPr>
          </a:p>
        </p:txBody>
      </p:sp>
      <p:sp>
        <p:nvSpPr>
          <p:cNvPr id="239" name="PlaceHolder 2"/>
          <p:cNvSpPr>
            <a:spLocks noGrp="1"/>
          </p:cNvSpPr>
          <p:nvPr>
            <p:ph/>
          </p:nvPr>
        </p:nvSpPr>
        <p:spPr>
          <a:xfrm>
            <a:off x="762120" y="1752480"/>
            <a:ext cx="6858000" cy="472464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at counts as a miscue? (Review pp. 214-215!</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t all miscues are created equally</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quality miscues (semantically acceptabl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w quality miscues (semantically unacceptable)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 S, V</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ally sheet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hnston, Appendix D</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hns &amp; Lensk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opics for today</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deswitching artic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eing syst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rding and assessing children’s oral read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scue Analysis/ Running Record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quiry Group Assignment Guideli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ctice with RR/M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685440"/>
            <a:ext cx="7543800" cy="52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mmary/Analysis Sheet</a:t>
            </a:r>
            <a:endParaRPr b="0" lang="en-US" sz="5000" spc="-1" strike="noStrike">
              <a:solidFill>
                <a:srgbClr val="04617b"/>
              </a:solidFill>
              <a:latin typeface="Calibri"/>
            </a:endParaRPr>
          </a:p>
        </p:txBody>
      </p:sp>
      <p:sp>
        <p:nvSpPr>
          <p:cNvPr id="241" name="PlaceHolder 2"/>
          <p:cNvSpPr>
            <a:spLocks noGrp="1"/>
          </p:cNvSpPr>
          <p:nvPr>
            <p:ph/>
          </p:nvPr>
        </p:nvSpPr>
        <p:spPr>
          <a:xfrm>
            <a:off x="609480" y="1752480"/>
            <a:ext cx="7772400" cy="4648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ry Potter Reading (260 words)</a:t>
            </a:r>
            <a:endParaRPr b="0" lang="en-US" sz="24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f-correction rate (sc/unacceptable miscues)</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lly errors: total errors - sc </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rror &amp; accuracy rates: (errors/total words) x 100</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self-corrections of acceptable miscues count?</a:t>
            </a:r>
            <a:endParaRPr b="0" lang="en-US" sz="24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me say yes, some say no</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say yes; it’s good to keep track of them</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veats for interpretation:</a:t>
            </a:r>
            <a:endParaRPr b="0" lang="en-US" sz="24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 careful of faulty assumptions (error/accuracy rate)</a:t>
            </a:r>
            <a:endParaRPr b="0" lang="en-US" sz="20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isten to Evan’s retell: </a:t>
            </a:r>
            <a:r>
              <a:rPr b="0" lang="en-US" sz="2000" spc="-1" strike="noStrike" u="sng">
                <a:solidFill>
                  <a:srgbClr val="e2d700"/>
                </a:solidFill>
                <a:uFillTx/>
                <a:latin typeface="Constantia"/>
                <a:hlinkClick r:id="rId1"/>
              </a:rPr>
              <a:t>http://people.coe.ilstu.edu/lhandsf/videos</a:t>
            </a:r>
            <a:endParaRPr b="0" lang="en-US" sz="2000" spc="-1" strike="noStrike">
              <a:solidFill>
                <a:srgbClr val="000000"/>
              </a:solidFill>
              <a:latin typeface="Constantia"/>
            </a:endParaRPr>
          </a:p>
          <a:p>
            <a:pPr lvl="1" marL="633240" indent="-2433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 flags with Evan’s Harry Potter read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lyzing the Miscues/Error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3" name=""/>
          <p:cNvSpPr txBox="1"/>
          <p:nvPr/>
        </p:nvSpPr>
        <p:spPr>
          <a:xfrm>
            <a:off x="456840" y="1600200"/>
            <a:ext cx="7467480" cy="4873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 low quality miscu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ptable miscu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phic similar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lf-correc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eing syst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analyzing</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SV analy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ning; semantic- does in make sen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tax; structure- does it sound righ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sual; graphophonic- does it look righ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er to PKT 52-53</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it mean?</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7" name=""/>
          <p:cNvSpPr txBox="1"/>
          <p:nvPr/>
        </p:nvSpPr>
        <p:spPr>
          <a:xfrm>
            <a:off x="456840" y="1600200"/>
            <a:ext cx="7467480" cy="4873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does your student kno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level of text is this for your studen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ependent  95-10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ional 90-94%</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ustration 80-89%</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elling</a:t>
            </a:r>
            <a:endParaRPr b="0" lang="en-US" sz="5000" spc="-1" strike="noStrike">
              <a:solidFill>
                <a:srgbClr val="04617b"/>
              </a:solidFill>
              <a:latin typeface="Calibri"/>
            </a:endParaRPr>
          </a:p>
        </p:txBody>
      </p:sp>
      <p:sp>
        <p:nvSpPr>
          <p:cNvPr id="249" name="PlaceHolder 2"/>
          <p:cNvSpPr>
            <a:spLocks noGrp="1"/>
          </p:cNvSpPr>
          <p:nvPr>
            <p:ph/>
          </p:nvPr>
        </p:nvSpPr>
        <p:spPr>
          <a:xfrm>
            <a:off x="685800" y="1828440"/>
            <a:ext cx="7772400" cy="441972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hnston discusses a few problems with retells:</a:t>
            </a:r>
            <a:endParaRPr b="0" lang="en-US" sz="28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not a realistic, everyday activity if both people read or saw the same text.</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able readers have an intuitive understanding of the testing situation, while less able readers do not (pragmatics!) and so may not perform as well</a:t>
            </a:r>
            <a:endParaRPr b="0" lang="en-US" sz="2400" spc="-1" strike="noStrike">
              <a:solidFill>
                <a:srgbClr val="000000"/>
              </a:solidFill>
              <a:latin typeface="Constantia"/>
            </a:endParaRPr>
          </a:p>
          <a:p>
            <a:pPr lvl="1" marL="639720" indent="-24588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from non middle-class households may be familiar with different story structures than those common in middle class homes. This can impact retelling</a:t>
            </a:r>
            <a:endParaRPr b="0" lang="en-US" sz="24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e Johns &amp; Lenski for ideas for retel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ore Comprehension Assessments </a:t>
            </a:r>
            <a:endParaRPr b="0" lang="en-US" sz="4000" spc="-1" strike="noStrike">
              <a:solidFill>
                <a:srgbClr val="04617b"/>
              </a:solidFill>
              <a:latin typeface="Calibri"/>
            </a:endParaRPr>
          </a:p>
        </p:txBody>
      </p:sp>
      <p:sp>
        <p:nvSpPr>
          <p:cNvPr id="251" name="PlaceHolder 2"/>
          <p:cNvSpPr>
            <a:spLocks noGrp="1"/>
          </p:cNvSpPr>
          <p:nvPr>
            <p:ph/>
          </p:nvPr>
        </p:nvSpPr>
        <p:spPr>
          <a:xfrm>
            <a:off x="685800" y="2057040"/>
            <a:ext cx="7848720" cy="43434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ranslating or paraphrasing (see Johnson pp. 247-249); consider having students translate into multiple sign systems as well as multiple languages or dialects</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nk Alouds (See Johnston Ch. 23)</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hecklists for comprehension strategies</a:t>
            </a:r>
            <a:endParaRPr b="0" lang="en-US" sz="28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ill bring handouts or post examples to wiki</a:t>
            </a:r>
            <a:endParaRPr b="0" lang="en-US" sz="24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se need not be formal assessments</a:t>
            </a:r>
            <a:endParaRPr b="0" lang="en-US" sz="28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can be used in instruction and for ongoing informal assessment.</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5800"/>
            <a:ext cx="7543800" cy="66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ing Reading Fluency</a:t>
            </a:r>
            <a:endParaRPr b="0" lang="en-US" sz="5000" spc="-1" strike="noStrike">
              <a:solidFill>
                <a:srgbClr val="04617b"/>
              </a:solidFill>
              <a:latin typeface="Calibri"/>
            </a:endParaRPr>
          </a:p>
        </p:txBody>
      </p:sp>
      <p:sp>
        <p:nvSpPr>
          <p:cNvPr id="253" name="PlaceHolder 2"/>
          <p:cNvSpPr>
            <a:spLocks noGrp="1"/>
          </p:cNvSpPr>
          <p:nvPr>
            <p:ph/>
          </p:nvPr>
        </p:nvSpPr>
        <p:spPr>
          <a:xfrm>
            <a:off x="609480" y="1676160"/>
            <a:ext cx="7848720" cy="4647960"/>
          </a:xfrm>
          <a:prstGeom prst="rect">
            <a:avLst/>
          </a:prstGeom>
          <a:noFill/>
          <a:ln w="0">
            <a:noFill/>
          </a:ln>
        </p:spPr>
        <p:txBody>
          <a:bodyPr anchor="t">
            <a:normAutofit fontScale="98000"/>
          </a:bodyPr>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ding rate is only one part of fluency</a:t>
            </a:r>
            <a:endParaRPr b="0" lang="en-US" sz="28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sody: Pitch, Stress, Juncture, </a:t>
            </a:r>
            <a:endParaRPr b="0" lang="en-US" sz="28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low, labored reading can neg. impact compreh.</a:t>
            </a:r>
            <a:endParaRPr b="0" lang="en-US" sz="28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cedures for measuring reading rate (handout)</a:t>
            </a:r>
            <a:endParaRPr b="0" lang="en-US" sz="2800" spc="-1" strike="noStrike">
              <a:solidFill>
                <a:srgbClr val="000000"/>
              </a:solidFill>
              <a:latin typeface="Constantia"/>
            </a:endParaRPr>
          </a:p>
          <a:p>
            <a:pPr lvl="1" marL="626760" indent="-2408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done in conjunction with miscue analysis</a:t>
            </a:r>
            <a:endParaRPr b="0" lang="en-US" sz="2400" spc="-1" strike="noStrike">
              <a:solidFill>
                <a:srgbClr val="000000"/>
              </a:solidFill>
              <a:latin typeface="Constantia"/>
            </a:endParaRPr>
          </a:p>
          <a:p>
            <a:pPr lvl="1" marL="626760" indent="-2408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PM or CWPM</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lso be done with silent reading, as long as you time the student’s reading, but you can’t calculate CWPM this way</a:t>
            </a:r>
            <a:r>
              <a:rPr b="0"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ltidimensional Fluency Sca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Practice</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t into small groups with your copies from your RR and Miscue analysis of the two practice item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n’t Let the Pigeon Drive the Bu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irate and the Parrot/ Lizzie’s Lunc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over your analysis and discuss any similarities/ differences.  I will circulate to answer questions, etc.</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 Monday…</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wiki for read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ditional RR practice on wiki; My Brother Wants to be like 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6fc6"/>
                </a:solidFill>
                <a:uFillTx/>
                <a:latin typeface="Calibri"/>
              </a:rPr>
              <a:t>Text: Sarah’s brother, who was only twelve and didn’t yet know how to drive, crashed the car on the side of the street.</a:t>
            </a:r>
            <a:endParaRPr b="0" lang="en-US" sz="28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1: Sarah’s brother, who was only twelve and didn’t yet know how to drive, crushed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2: Sarah’s br- broker, who was only twenty and didn’t know how to dr- drip, crasled the car on the side of the st- steps.</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3: Sarah bruvver, who was only twelve and didn’t yet know how to drive, crash the car on the side of the street.</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4: Sarah’s brother, who was only twelve and didn’t know how to drive a car, crashed the car on the side of the road.</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er 5: Sara’s brohther, who was only… twelve? and deedin’t yet k-now…know how to dreeveh…drive, crash the car on the side of the street.</a:t>
            </a:r>
            <a:endParaRPr b="0" lang="en-US" sz="2200" spc="-1" strike="noStrike">
              <a:solidFill>
                <a:srgbClr val="000000"/>
              </a:solidFill>
              <a:latin typeface="Constantia"/>
            </a:endParaRPr>
          </a:p>
          <a:p>
            <a:pPr marL="245520" indent="-24552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cueing systems are these readers using? Which reader(s) would you consider successful? Why? What other information could you use about these children?</a:t>
            </a:r>
            <a:endParaRPr b="0" lang="en-US" sz="2200" spc="-1" strike="noStrike">
              <a:solidFill>
                <a:srgbClr val="000000"/>
              </a:solidFill>
              <a:latin typeface="Constantia"/>
            </a:endParaRPr>
          </a:p>
          <a:p>
            <a:pPr marL="245520" indent="-2455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deswitching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y: There is not one correct form of Englis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Discus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gage in role play to lower the affective filter</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sition, your students as linguist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less the focus of your lesson is on an aspect of Standard English grammar, do not comment on students’ language form.</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 grammatical differences </a:t>
            </a:r>
            <a:r>
              <a:rPr b="0" i="1" lang="en-US" sz="2800" spc="-1" strike="noStrike">
                <a:solidFill>
                  <a:srgbClr val="000000"/>
                </a:solidFill>
                <a:latin typeface="Constantia"/>
              </a:rPr>
              <a:t>in formal and informal mini-lessons</a:t>
            </a:r>
            <a:endParaRPr b="0" lang="en-US" sz="2800" spc="-1" strike="noStrike">
              <a:solidFill>
                <a:srgbClr val="000000"/>
              </a:solidFill>
              <a:latin typeface="Constantia"/>
            </a:endParaRPr>
          </a:p>
          <a:p>
            <a:pPr marL="272880" indent="-272880">
              <a:lnSpc>
                <a:spcPct val="7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Contrastive Analysis</a:t>
            </a:r>
            <a:endParaRPr b="0" lang="en-US" sz="28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grammar for patterns</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st; not correction</a:t>
            </a:r>
            <a:endParaRPr b="0" lang="en-US" sz="2400" spc="-1" strike="noStrike">
              <a:solidFill>
                <a:srgbClr val="000000"/>
              </a:solidFill>
              <a:latin typeface="Constantia"/>
            </a:endParaRPr>
          </a:p>
          <a:p>
            <a:pPr lvl="1" marL="639720" indent="-245880">
              <a:lnSpc>
                <a:spcPct val="7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 children and signal to them when they need to “flip the switch,” or codeswitch</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tructional implication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nguage Cues and Miscues</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 cueing systems</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aphophonic</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ntactic</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mantic</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agmatic</a:t>
            </a: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then, is a miscu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 these cueing systems have to do with reading and writing, or other forms of communic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do the four cueing systems relate to one anothe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king Sense of Texts</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eing systems can be thought of as different language resources, or information stores, that a person can draw on as they make sense of texts</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ueing systems are not used in isolation!</a:t>
            </a:r>
            <a:endParaRPr b="0" lang="en-US" sz="28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ful readers never use </a:t>
            </a:r>
            <a:r>
              <a:rPr b="0" i="1" lang="en-US" sz="2400" spc="-1" strike="noStrike">
                <a:solidFill>
                  <a:srgbClr val="000000"/>
                </a:solidFill>
                <a:latin typeface="Constantia"/>
              </a:rPr>
              <a:t>only</a:t>
            </a:r>
            <a:r>
              <a:rPr b="0" lang="en-US" sz="2400" spc="-1" strike="noStrike">
                <a:solidFill>
                  <a:srgbClr val="000000"/>
                </a:solidFill>
                <a:latin typeface="Constantia"/>
              </a:rPr>
              <a:t> graphophonics, or </a:t>
            </a:r>
            <a:r>
              <a:rPr b="0" i="1" lang="en-US" sz="2400" spc="-1" strike="noStrike">
                <a:solidFill>
                  <a:srgbClr val="000000"/>
                </a:solidFill>
                <a:latin typeface="Constantia"/>
              </a:rPr>
              <a:t>only</a:t>
            </a:r>
            <a:r>
              <a:rPr b="0" lang="en-US" sz="2400" spc="-1" strike="noStrike">
                <a:solidFill>
                  <a:srgbClr val="000000"/>
                </a:solidFill>
                <a:latin typeface="Constantia"/>
              </a:rPr>
              <a:t> semantics, or </a:t>
            </a:r>
            <a:r>
              <a:rPr b="0" i="1" lang="en-US" sz="2400" spc="-1" strike="noStrike">
                <a:solidFill>
                  <a:srgbClr val="000000"/>
                </a:solidFill>
                <a:latin typeface="Constantia"/>
              </a:rPr>
              <a:t>only</a:t>
            </a:r>
            <a:r>
              <a:rPr b="0" lang="en-US" sz="2400" spc="-1" strike="noStrike">
                <a:solidFill>
                  <a:srgbClr val="000000"/>
                </a:solidFill>
                <a:latin typeface="Constantia"/>
              </a:rPr>
              <a:t> one other cueing system when they rea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ful reading and writing involves the </a:t>
            </a:r>
            <a:r>
              <a:rPr b="1" i="1" lang="en-US" sz="2400" spc="-1" strike="noStrike">
                <a:solidFill>
                  <a:srgbClr val="000000"/>
                </a:solidFill>
                <a:latin typeface="Constantia"/>
              </a:rPr>
              <a:t>meaningful integration</a:t>
            </a:r>
            <a:r>
              <a:rPr b="0" lang="en-US" sz="2400" spc="-1" strike="noStrike">
                <a:solidFill>
                  <a:srgbClr val="000000"/>
                </a:solidFill>
                <a:latin typeface="Constantia"/>
              </a:rPr>
              <a:t> of multiple cueing system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 this to the readings for today</a:t>
            </a:r>
            <a:endParaRPr b="0" lang="en-US" sz="24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ing the cueing systems…</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Using language exercise.do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t into small groups of 4-5</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ing Oral Reading</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nning Records, Miscue Analysis, and Retrospective Miscue Analysis (RM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rpose of each: </a:t>
            </a:r>
            <a:endParaRPr b="0" lang="en-US" sz="26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analyze how children employ different cueing systems or strategies as they rea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An individual error is less informative than a pattern of errors”</a:t>
            </a:r>
            <a:endParaRPr b="0" lang="en-US" sz="22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scue or error? </a:t>
            </a:r>
            <a:endParaRPr b="0" lang="en-US" sz="26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Error </a:t>
            </a:r>
            <a:r>
              <a:rPr b="0" lang="en-US" sz="2200" spc="-1" strike="noStrike">
                <a:solidFill>
                  <a:srgbClr val="000000"/>
                </a:solidFill>
                <a:latin typeface="Constantia"/>
              </a:rPr>
              <a:t>implies doing something wrong or not using a strategy</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Miscue</a:t>
            </a:r>
            <a:r>
              <a:rPr b="0" lang="en-US" sz="2200" spc="-1" strike="noStrike">
                <a:solidFill>
                  <a:srgbClr val="000000"/>
                </a:solidFill>
                <a:latin typeface="Constantia"/>
              </a:rPr>
              <a:t> implies using strategies, although perhaps not the best one for the text</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ing Miscue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9360" indent="-279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different conventions for annotating oral reading. Consistency is the most important thing.</a:t>
            </a:r>
            <a:endParaRPr b="0" lang="en-US" sz="2400" spc="-1" strike="noStrike">
              <a:solidFill>
                <a:srgbClr val="000000"/>
              </a:solidFill>
              <a:latin typeface="Constantia"/>
            </a:endParaRPr>
          </a:p>
          <a:p>
            <a:pPr marL="279360" indent="-279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unning Records</a:t>
            </a:r>
            <a:endParaRPr b="0" lang="en-US" sz="24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n’t need a copy of the text</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 marks/annotations as you go</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be done “on the fly”</a:t>
            </a:r>
            <a:endParaRPr b="0" lang="en-US" sz="2000" spc="-1" strike="noStrike">
              <a:solidFill>
                <a:srgbClr val="000000"/>
              </a:solidFill>
              <a:latin typeface="Constantia"/>
            </a:endParaRPr>
          </a:p>
          <a:p>
            <a:pPr marL="279360" indent="-279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scue Analysis/Retrospective Miscue Analysis</a:t>
            </a:r>
            <a:endParaRPr b="0" lang="en-US" sz="24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rd using audio or video</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visit recording, do annotations on copy of text</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time consuming, but more accurate</a:t>
            </a:r>
            <a:endParaRPr b="0" lang="en-US" sz="2000" spc="-1" strike="noStrike">
              <a:solidFill>
                <a:srgbClr val="000000"/>
              </a:solidFill>
              <a:latin typeface="Constantia"/>
            </a:endParaRPr>
          </a:p>
          <a:p>
            <a:pPr lvl="1" marL="6793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RMA: Child listens to her/his own reading</a:t>
            </a:r>
            <a:endParaRPr b="0" lang="en-US" sz="2000" spc="-1" strike="noStrike">
              <a:solidFill>
                <a:srgbClr val="000000"/>
              </a:solidFill>
              <a:latin typeface="Constantia"/>
            </a:endParaRPr>
          </a:p>
          <a:p>
            <a:pPr marL="279360" indent="-279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College of Education</cp:lastModifiedBy>
  <dcterms:modified xsi:type="dcterms:W3CDTF">2010-01-27T14:21:35Z</dcterms:modified>
  <cp:revision>32</cp:revision>
  <dc:subject/>
  <dc:title>Week 2, June 6th</dc:title>
</cp:coreProperties>
</file>